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02F-7EB7-450B-9358-4A277CBE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CE4-132E-425F-A545-9C95E472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AED-CAC6-4209-AF51-1C92065E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9B0-4E22-43D7-942F-9604067F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65A-5481-4802-AF39-A1853F86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DEA-8B8E-40D4-83FE-BC5683E4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59C-5B9D-43FE-AF30-20BAC576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BDF-DD7F-4468-AD6A-4ED6E1B7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BE7-C048-4F3C-A347-6B495F63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464-6F24-47B9-8806-70DE213D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583-17FF-44E1-97A4-0162FF73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9FD-A4FB-4566-AB26-6FAD35C5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613-B43B-4D9A-ADB4-8682C55777B4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1828800"/>
          <a:ext cx="5257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5257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387080" y="1295280"/>
            <a:ext cx="413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현금영수증 메뉴는 온라인계좌이체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가상계좌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무통장입금 건에 대해 현금영수증 등록 및 출력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취소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가능하며 등록일자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검색기능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주문자명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주민번호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금액 등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으로 등록된 정보를 관리할 수 있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서비스입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1752480"/>
            <a:ext cx="7621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397520" y="6172200"/>
            <a:ext cx="383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영수증 등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A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계좌이체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가상계좌로 결제한 경우에는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000" spc="-1" strike="noStrike">
                <a:solidFill>
                  <a:srgbClr val="009999"/>
                </a:solidFill>
                <a:latin typeface="돋움"/>
                <a:ea typeface="돋움"/>
              </a:rPr>
              <a:t>등록대상거래조회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에서 검색일자와 결제수단을 선택하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조회 후 발행버튼을 누르면 등록페이지로 이동합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57360" y="6781680"/>
          <a:ext cx="543852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7360" y="6781680"/>
                    <a:ext cx="5438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562720" y="7696080"/>
            <a:ext cx="457200" cy="304920"/>
          </a:xfrm>
          <a:prstGeom prst="ellipse">
            <a:avLst/>
          </a:prstGeom>
          <a:noFill/>
          <a:ln w="414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7924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52280"/>
            <a:ext cx="3962520" cy="762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c1211"/>
              </a:gs>
              <a:gs pos="50000">
                <a:srgbClr val="9abeb6"/>
              </a:gs>
              <a:gs pos="100000">
                <a:srgbClr val="0c121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99"/>
                </a:solidFill>
                <a:latin typeface="휴먼옛체"/>
                <a:ea typeface="휴먼옛체"/>
              </a:rPr>
              <a:t>현금영수증 사용자 매뉴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2560" y="4191120"/>
          <a:ext cx="525780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2560" y="4191120"/>
                    <a:ext cx="52578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406160" y="3581280"/>
            <a:ext cx="380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계좌이체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가상계좌 거래건은 영수증등록을 관리자가 직접 하지않고 결제 시 자동으로 등록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자동등록을 원하시는 경우에는 </a:t>
            </a:r>
            <a:r>
              <a:rPr b="1" lang="ko-KR" sz="1000" spc="-1" strike="noStrike">
                <a:solidFill>
                  <a:srgbClr val="009999"/>
                </a:solidFill>
                <a:latin typeface="돋움"/>
                <a:ea typeface="돋움"/>
              </a:rPr>
              <a:t>현금영수증설정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에서 ‘결제 시 현금영수증 자동 등록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여부’에 등록함을 선택하시어 확인버튼을 누르시면 자동으로 현금영수증이 등록됩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848200" y="8442360"/>
            <a:ext cx="62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뒷면참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09480" y="7467480"/>
          <a:ext cx="51818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467480"/>
                    <a:ext cx="51818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444680" y="7086600"/>
            <a:ext cx="369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▶ </a:t>
            </a:r>
            <a:r>
              <a:rPr b="1" lang="zh-CN" sz="1000" spc="-1" strike="noStrike">
                <a:solidFill>
                  <a:srgbClr val="009999"/>
                </a:solidFill>
                <a:latin typeface="돋움"/>
                <a:ea typeface="돋움"/>
              </a:rPr>
              <a:t>발행내역조회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에서는 발행된 현금영수증을 조회하는 메뉴로 전송일자 및 검색구분으로 데이터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조회할 수 있으며 인쇄 및 취소등록 버튼을 통해 영수증 출력과 취소처리가 가능합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3962520"/>
          <a:ext cx="411480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962520"/>
                    <a:ext cx="41148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191120" y="4876920"/>
            <a:ext cx="304560" cy="304560"/>
          </a:xfrm>
          <a:prstGeom prst="ellipse">
            <a:avLst/>
          </a:prstGeom>
          <a:noFill/>
          <a:ln w="414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9480" y="5562720"/>
          <a:ext cx="41148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562720"/>
                    <a:ext cx="4114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00600" y="3962520"/>
          <a:ext cx="1752480" cy="297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962520"/>
                    <a:ext cx="1752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343400" y="5257800"/>
            <a:ext cx="380880" cy="228600"/>
          </a:xfrm>
          <a:prstGeom prst="ellipse">
            <a:avLst/>
          </a:prstGeom>
          <a:noFill/>
          <a:ln w="414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49528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54864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6477120"/>
            <a:ext cx="68580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322280" y="3352680"/>
            <a:ext cx="400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▶ </a:t>
            </a:r>
            <a:r>
              <a:rPr b="1" lang="zh-CN" sz="1000" spc="-1" strike="noStrike">
                <a:solidFill>
                  <a:srgbClr val="009999"/>
                </a:solidFill>
                <a:latin typeface="돋움"/>
                <a:ea typeface="돋움"/>
              </a:rPr>
              <a:t>등록내역조회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에서는 등록된 현금영수증을 등록일자 및 검색구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전체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구매자명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금액 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통해 데이터를 조회하실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영수증출력은 영수증작업에 인쇄버튼을 누르면 영수증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인쇄할 수 있으며 취소버튼을 누르면 등록된 영수증은 취소처리가 됩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717480"/>
          <a:ext cx="5029200" cy="173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717480"/>
                    <a:ext cx="5029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5800" y="2530440"/>
          <a:ext cx="5029200" cy="74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2530440"/>
                    <a:ext cx="5029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274760" y="168120"/>
            <a:ext cx="372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B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무통장입금의 경우에는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000" spc="-1" strike="noStrike">
                <a:solidFill>
                  <a:srgbClr val="009999"/>
                </a:solidFill>
                <a:latin typeface="돋움"/>
                <a:ea typeface="돋움"/>
              </a:rPr>
              <a:t>영수증등록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에서 거래일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구매자주민번호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타입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승인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취소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)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발행대상구분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금액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주문자명 등을 입력하여 등록버튼을 누르면 저장되며 건별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o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대량으로 일괄등록이 가능합니다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86400" y="1143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1522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9:49:23Z</dcterms:created>
  <dc:creator>조해경</dc:creator>
  <dc:description/>
  <dc:language>en-US</dc:language>
  <cp:lastModifiedBy>박성원</cp:lastModifiedBy>
  <dcterms:modified xsi:type="dcterms:W3CDTF">2004-12-17T00:18:55Z</dcterms:modified>
  <cp:revision>8</cp:revision>
  <dc:subject/>
  <dc:title>PowerPoint 프레젠테이션</dc:title>
</cp:coreProperties>
</file>